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A33E6-17CA-4835-B75B-69B699B7E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A8A1C-B1D7-4B13-8D75-17C9C4641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8F8F8FA-547F-4205-BA90-87C43AA3B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75D9D97-CD08-43E0-B7C6-74F459A4C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D14F5AD-1F80-49FD-9DF4-168D8D8AF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7618F4C-7246-4DE5-B6FE-B2E8CBA08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B5906AA-6F24-48E1-8595-730BA8627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0612B13-02F5-42B9-B43F-7267A61E5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F9281B8-454B-496A-9C4B-8C3BE3F83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2F39BBC-4921-4135-82E0-01D2F906E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0B0463F-0140-4568-8ADB-057B3BF8E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BD3F7-D9C9-4E05-AEBA-8522AACCE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006C7-2383-4352-A4EB-4CD17A65B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9B7B23-CC6A-41CF-AFDA-11D1D7D22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A64308-BF08-4378-B069-9BFBE7DB3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4F36A9-7DAA-4A17-AFFA-90BC5B89E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4A6701-74F3-439A-93C9-AE9DC66EA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8CA202-F6BC-4D5D-A703-0149B5CF6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862605-C480-4480-8E68-E17BCAB4A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32FAF0-E99E-4906-BA52-FF326BFC2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9FE24-3700-4A6F-8683-3CD64FAD3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DB7DD2-D45E-4299-8D84-E5A5919F9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B0DB5D-B09D-4C94-B9CF-D2DF51922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E6315E-52BA-4F9F-82AF-992B10E83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68EC13-6274-4C31-AA35-28F6F8746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98F208-ACB5-4E7C-BC6E-9553350D8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B93993-8689-481A-A478-781DE3E0C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BD4E5F-79AB-4A27-80F8-03BB9A5B9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D76071-5A01-4130-839D-D2F586D95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F58151-056C-4784-920D-2837F0854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44D8E4-1F18-4BBF-8C4E-9CA8554C2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1A9FD-FDCB-4A80-A4E7-6CD174D10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DC2075-D5DF-4255-9025-90CDFEDCE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1159D3-C229-4B69-AAB2-C2BCD1840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8C9684-0642-41D6-BFC0-20659C406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A46E23-56B9-4048-9867-0B1E648E4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CD7B00-1537-481B-8BCE-BB14FBA38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E6A512-8309-408D-B820-7BE557DF3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4A5058-E49F-4586-A40E-E728925DF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D56940E-DB5B-4A4A-93CC-F7F6B0C80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BF803DF-4FE2-4AC5-80DB-C2C55FD5A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7D1E697-69E1-4C0F-AA6D-B6E0FB437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ED351-74A9-4623-93C7-A2930D0B7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2984FE8-CB0B-4647-9873-E877FEAE9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9E085F4-C511-49F9-B813-A524F15CE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D190225-362E-4043-9983-388E4E775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47D1820-6C65-4EA9-A183-781745E9B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122554A-E3B7-4E94-AFEC-87281EC31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F5ECCA5-9BC3-4A6A-A809-60DBCF827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00289DD-760E-4A9D-A9A3-4A9BEF611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7D8413A-159E-4467-8FCF-0C0797705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DBF791B-B672-4145-B8D0-F742FEC37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C4B7B3-6ACD-461E-B106-C8F860FDB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03D2F-FAEB-4AB8-8C0D-83F98097A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8368B7-F038-4B58-8A07-059E19E22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84F7B6-9E07-4396-9AF3-F471239FD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D1C12E-87F8-42A7-A684-161E1E2B6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47F92C-9F4D-4A62-BAFB-C86B9AE0A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A76D4B-4633-4619-854C-39FBD4AE9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03EE5D-37A6-4AEC-A262-B6926A953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C35FC6-0044-4E66-A3DD-C8B041E35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FDB0D4-AE64-4F05-81C1-49070326E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8D0FAC-5530-4E33-8705-F6C16CA4B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6F3FB2-19D4-463B-BA6E-14D310CAA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22A02-41AE-407F-BDB0-1363EAAA1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330142-8704-4E85-84BA-93EE97FE3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6F11E8-F730-44AE-8CB8-0BAC8022C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9EF926-E79B-4BB2-A2DF-43BADB238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1A5592-84A2-4E98-98C1-7BCA09F78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36F0F6-885E-4914-8B88-5204ED87F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01B658-C9BC-41CE-A044-367000810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0E5538-853E-437C-A950-D1821B03E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89596C-E3C7-45E2-8791-0492720C5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C9282B-AA0C-4B17-9B81-3B219E91F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93E97A-7604-4B5A-ABEC-00DD82ABA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D7C10-D083-478C-B2A6-329D77257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5AC3FF-4990-4F8A-B470-79454545E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3C52D1-3CBB-41A0-8D7D-FB7FA42A9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1B3D17-7D1F-43EF-A253-E5B73347F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E43AEB-BD8E-46A1-B2E3-DAAA752FC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6351B2-0175-4E02-BE2B-BA9FB9659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C14AA8-3DDE-4699-8CC1-EEFEC08B3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F6DC3B-4797-4E74-9CA9-946A481B7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3979BC-EBBB-4DF6-9DDF-4BCFC3590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F9AB21-88D8-4CBA-BCF2-2B2DBB859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17DDB4-5A45-47D4-B3D5-22F378953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3D94F-3CD5-41C6-9A59-9BEAA6523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CACBA1-B536-40A9-8195-5E520E08C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DF0044-B821-4375-8021-D58006DF0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0DCC0F-F8E2-48F4-AC12-FC3430BC9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C757BA-3967-40DE-80AB-D64B720B6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C8A38A-9478-4F67-8E4A-0BA407280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8C523B2-FE50-4120-9444-6193F309E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B6BD850-43D8-4BD1-81CE-46D196BE8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DB6ACEA-144D-45EF-BF21-86C239EAF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2F142ED-DE4D-478E-8DA5-1474FE990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18CF0F5-8E90-45A3-BAC9-4A6DE45AE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F85AF-F998-42F5-88B7-CB11CC32F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2808E90-492A-411F-BF90-6FB13DF39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8D48F55-08BB-42BB-9537-CED1C0982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B0F1E86-D6B6-4C11-AF61-14894CB6F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7B7380C-8365-4D14-A5EC-A2C814906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620D338-7131-4864-BA3F-F57B44C85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EB6D6E8-54A4-4144-817A-F7F6D86C0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163EF18-E249-4F51-B3EC-DDBB80E7C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87BCC25-F1BC-4BB3-919A-7E5C10270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7016730-0664-475E-95CD-2C136F54C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7234481-8E2C-4AFE-A6BD-143977ABE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Rockwel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F264B-7AB3-43EB-BA3F-F142CD509D16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ound Diagonal Corner Rectangle 7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45" name="Round Diagonal Corner Rectangle 7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Rockwel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FA86D-1E2E-46AB-A523-CD6A4449061D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89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Rockwell"/>
              </a:endParaRPr>
            </a:p>
          </p:txBody>
        </p:sp>
      </p:grpSp>
      <p:sp>
        <p:nvSpPr>
          <p:cNvPr id="91" name="Rectangle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DA7C7-D4C0-4683-9270-71F7E48D34AA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E6F41-5C66-460A-AD41-F814282EE7D0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76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Rockwell"/>
              </a:endParaRPr>
            </a:p>
          </p:txBody>
        </p:sp>
      </p:grpSp>
      <p:sp>
        <p:nvSpPr>
          <p:cNvPr id="178" name="Rectangle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1BEDE-77B1-4D70-A5FA-DA0AABBBFCAF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21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Rockwell"/>
              </a:endParaRPr>
            </a:p>
          </p:txBody>
        </p:sp>
      </p:grpSp>
      <p:sp>
        <p:nvSpPr>
          <p:cNvPr id="223" name="Rectangle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4" name="Rectangle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A9F1F-6DB8-43D0-906C-707784538254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67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Rockwell"/>
              </a:endParaRPr>
            </a:p>
          </p:txBody>
        </p:sp>
      </p:grpSp>
      <p:sp>
        <p:nvSpPr>
          <p:cNvPr id="269" name="Rectangle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FC83B-E5DE-473D-9AF5-7BF82DF1DAB5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4DA39-8C71-43C9-B6BD-EE3A57CA8924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6A49A-0196-4A77-BBF9-E1BDCCEC2DA0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Title 1" descr=""/>
          <p:cNvPicPr/>
          <p:nvPr/>
        </p:nvPicPr>
        <p:blipFill>
          <a:blip r:embed="rId1"/>
          <a:stretch/>
        </p:blipFill>
        <p:spPr>
          <a:xfrm>
            <a:off x="457200" y="378000"/>
            <a:ext cx="8418600" cy="2232000"/>
          </a:xfrm>
          <a:prstGeom prst="rect">
            <a:avLst/>
          </a:prstGeom>
          <a:ln w="0">
            <a:noFill/>
          </a:ln>
        </p:spPr>
      </p:pic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2133360" y="2819520"/>
            <a:ext cx="6559560" cy="1752480"/>
          </a:xfrm>
          <a:prstGeom prst="rect">
            <a:avLst/>
          </a:prstGeom>
          <a:noFill/>
          <a:ln w="0">
            <a:noFill/>
          </a:ln>
        </p:spPr>
        <p:txBody>
          <a:bodyPr lIns="45720" rIns="24696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Reading for a Reason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397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Rockwell"/>
              </a:rPr>
              <a:t>Some individuals find poetry difficult</a:t>
            </a:r>
            <a:endParaRPr b="0" lang="en-US" sz="30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lnSpc>
                <a:spcPct val="90000"/>
              </a:lnSpc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Intimidating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lnSpc>
                <a:spcPct val="90000"/>
              </a:lnSpc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Subtle tone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lnSpc>
                <a:spcPct val="90000"/>
              </a:lnSpc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Obscurity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lnSpc>
                <a:spcPct val="90000"/>
              </a:lnSpc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Confusing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lnSpc>
                <a:spcPct val="90000"/>
              </a:lnSpc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Does not get to the point directly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Rockwell"/>
              </a:rPr>
              <a:t>Poetry must be deciphered</a:t>
            </a:r>
            <a:endParaRPr b="0" lang="en-US" sz="30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lnSpc>
                <a:spcPct val="90000"/>
              </a:lnSpc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Often omits explanation, causing a need for decompression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lnSpc>
                <a:spcPct val="90000"/>
              </a:lnSpc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Many glaze over without reading closely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lnSpc>
                <a:spcPct val="90000"/>
              </a:lnSpc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Not impossible to understand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399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Rephrasing – Put poem in own words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Voice – Who is the poem’s speaker?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Diction – Word choice?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Imagery – What images are presented?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gures of speech – Metaphor?  Simile? Hyperbole?  Personification? Understatement?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ound – Are rhythm and meter regular or irregular?  Alliteration? Assonance?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01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ymbols, Allegory, Allusion, Myth – What signals are used to convey the message?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eme – What is the overall theme of the poem?  How are those themes expressed?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03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You have the poems – mark them up!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Break out the highlighters and pens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In the margins, you should write information that comes to mind as you read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Write questions as you move along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05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Don’t be intimidated – you can glean something from every poem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Read and reread – poetry is short – therefore you should plan on reading each poem at least three times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Each time you read the poem you will discover more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6T13:08:34Z</dcterms:created>
  <dc:creator>Administrator</dc:creator>
  <dc:description/>
  <dc:language>en-US</dc:language>
  <cp:lastModifiedBy>Administrator</cp:lastModifiedBy>
  <dcterms:modified xsi:type="dcterms:W3CDTF">2009-11-16T13:20:38Z</dcterms:modified>
  <cp:revision>2</cp:revision>
  <dc:subject/>
  <dc:title>Poetry</dc:title>
</cp:coreProperties>
</file>